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D6F-AC30-4DE8-A542-66E1CD27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A8D-ED75-4CBD-8B9F-C02024B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998-6B01-4344-812E-CE01F261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F70-AFC8-4F84-AC79-C1E7E430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617F-29ED-4204-A5D0-1056C906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99F-1D62-4843-84AD-B7689CB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F2E-5551-447A-956D-07162E1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2D7-B657-4B49-B9EF-5011D5E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B7A-69FF-4DFC-BDD8-131DEAF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9BC-AACE-4B8A-A0AE-3ADE7E7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0EC8-CC8E-4F7F-9058-EBE568F2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2FE-C59A-4D59-AE74-0406FAD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7111-03B9-4A6E-9C67-9767FFC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7BCF-7F68-49B9-AAEE-94BE11C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17A5-99CD-4180-9837-849B180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882-30C1-402A-A0A0-AFA2592E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D424-47BF-46D0-88C3-0E5982B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CE8-AC67-4AA2-96A4-ADB23740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C4B-FE2E-46DD-8DD9-D6D9BBB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EED-25ED-44CF-B991-CEEF0FD0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298-8453-4563-8A67-BEE3D70B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FAC-5F61-40A7-A462-3920475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556-EF23-4184-AFB9-E68034D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6BB-70D6-4E2D-A90C-8C643D0A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EBF-76FA-4110-806C-49A4EB82D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FAC-83A4-4EF4-A1AA-0789AB0F0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visory Progra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A. Farley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lead activities with their groups that promote productive convers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will be provided with more than enough activities for each week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s can pick and choose which activities they will use and have the freedom to lead the group discussions in a different direction or present different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urriculum that must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counselors, social workers, psychologists are trained for counseling and will continue to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 a Nut Sh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give the kids an adult and a group of other kids to connect with and get to know on a more personal level.  Advisors should model good decisions and positive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22334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small, caring communities of learn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mutually respectful and meaningfu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individual attention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each student with an opportunity to be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s the social and emotional development of every young adole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Mi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ssion of the James A. Farley Middle School, an innovative, challenging and supportive place of learning, in partnership with it’s community is to create a positive educational environment which provides the nurturing and guidance required to facilitate the transformation of children into responsible young adults by fostering their academic, physical, social, emotional and itellectu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students with interpersonal communication skills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teachers to be actively involved in the affective development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fun, non stressful portion of a teachers work week in which they can connect with stud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78360" y="1295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start date- October 10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base- Short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- 2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eriod shortened by 1 min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ssing time shortened by 1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 Homebase shorte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the program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gr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 relates to our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provides the nurturing and guidance required to facilitate the transformation of children into responsible young adul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just one more thing for me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have to plan for advis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181480" y="207180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something comes up that I am not comfortable dealing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should I contact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762600" y="1066680"/>
            <a:ext cx="1390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a student asks a question that I don’t have the answer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we don’t finish the ac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your group about 1 thing they would like to accomplish or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tudents mak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ie of Life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in groups of 5 or 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facilit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hand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257800" y="1995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w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76920" y="169056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don’t wa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SA supports advisor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adolescents should have at least one adult at a school in which they can connect with and to serve as their advocate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World say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visory of some type is essential to a successful Middle School progr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MSA~ Seven Essenti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 philosophy and mission that reflect the intellectual and developmental needs and characteristics of young adolesc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n organization and structure that support both academic excellence and person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is an organized group of 1 adult and 10-12 students that serves as the students first line of affiliation in their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groups will meet once a week for 2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1:07:43Z</dcterms:created>
  <dc:creator>North Rockland Schools</dc:creator>
  <dc:description/>
  <dc:language>en-US</dc:language>
  <cp:lastModifiedBy>North Rockland Schools</cp:lastModifiedBy>
  <dcterms:modified xsi:type="dcterms:W3CDTF">2008-09-10T19:16:04Z</dcterms:modified>
  <cp:revision>7</cp:revision>
  <dc:subject/>
  <dc:title>Advisory Program</dc:title>
</cp:coreProperties>
</file>